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commentAuthors.xml><?xml version="1.0" encoding="utf-8"?>
<p:cmAuthorLst xmlns:p="http://schemas.openxmlformats.org/presentationml/2006/main">
  <p:cmAuthor id="0" name="obermeier" initials="o" lastIdx="1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01T00:35:02.803000000" idx="1">
    <p:pos x="116" y="3250"/>
    <p:text>Export: Overview</p:text>
  </p:cm>
</p:cmLst>
</file>

<file path=ppt/comments/comment10.xml><?xml version="1.0" encoding="utf-8"?>
<p:cmLst xmlns:p="http://schemas.openxmlformats.org/presentationml/2006/main">
  <p:cm authorId="0" dt="2015-09-01T00:37:12.617000000" idx="10">
    <p:pos x="16" y="1889"/>
    <p:text>Export: EnumExplorer</p:text>
  </p:cm>
</p:cmLst>
</file>

<file path=ppt/comments/comment11.xml><?xml version="1.0" encoding="utf-8"?>
<p:cmLst xmlns:p="http://schemas.openxmlformats.org/presentationml/2006/main">
  <p:cm authorId="0" dt="2015-09-01T00:37:12.617000000" idx="11">
    <p:pos x="84" y="2903"/>
    <p:text>Export: OneNoteInfo</p:text>
  </p:cm>
</p:cmLst>
</file>

<file path=ppt/comments/comment12.xml><?xml version="1.0" encoding="utf-8"?>
<p:cmLst xmlns:p="http://schemas.openxmlformats.org/presentationml/2006/main">
  <p:cm authorId="0" dt="2015-09-01T00:37:30.570000000" idx="12">
    <p:pos x="84" y="2656"/>
    <p:text>Export: Workflow</p:text>
  </p:cm>
</p:cmLst>
</file>

<file path=ppt/comments/comment2.xml><?xml version="1.0" encoding="utf-8"?>
<p:cmLst xmlns:p="http://schemas.openxmlformats.org/presentationml/2006/main">
  <p:cm authorId="0" dt="2015-09-01T00:35:40.647000000" idx="2">
    <p:pos x="144" y="2260"/>
    <p:text>Export: excelCsv</p:text>
  </p:cm>
</p:cmLst>
</file>

<file path=ppt/comments/comment3.xml><?xml version="1.0" encoding="utf-8"?>
<p:cmLst xmlns:p="http://schemas.openxmlformats.org/presentationml/2006/main">
  <p:cm authorId="0" dt="2015-09-01T00:35:57.819000000" idx="3">
    <p:pos x="432" y="1818"/>
    <p:text>Export: excelTablelist</p:text>
  </p:cm>
</p:cmLst>
</file>

<file path=ppt/comments/comment4.xml><?xml version="1.0" encoding="utf-8"?>
<p:cmLst xmlns:p="http://schemas.openxmlformats.org/presentationml/2006/main">
  <p:cm authorId="0" dt="2015-09-01T00:36:11.476000000" idx="4">
    <p:pos x="298" y="2240"/>
    <p:text>Export: excelMatlabFile</p:text>
  </p:cm>
</p:cmLst>
</file>

<file path=ppt/comments/comment5.xml><?xml version="1.0" encoding="utf-8"?>
<p:cmLst xmlns:p="http://schemas.openxmlformats.org/presentationml/2006/main">
  <p:cm authorId="0" dt="2015-09-01T00:36:25.835000000" idx="5">
    <p:pos x="586" y="1832"/>
    <p:text>Export: excelWord</p:text>
  </p:cm>
</p:cmLst>
</file>

<file path=ppt/comments/comment6.xml><?xml version="1.0" encoding="utf-8"?>
<p:cmLst xmlns:p="http://schemas.openxmlformats.org/presentationml/2006/main">
  <p:cm authorId="0" dt="2015-09-01T00:36:32.835000000" idx="6">
    <p:pos x="311" y="2240"/>
    <p:text>Export: excelImgRaw</p:text>
  </p:cm>
</p:cmLst>
</file>

<file path=ppt/comments/comment7.xml><?xml version="1.0" encoding="utf-8"?>
<p:cmLst xmlns:p="http://schemas.openxmlformats.org/presentationml/2006/main">
  <p:cm authorId="0" dt="2015-09-01T00:36:42.695000000" idx="7">
    <p:pos x="271" y="2234"/>
    <p:text>Export: excelMediaWiki</p:text>
  </p:cm>
</p:cmLst>
</file>

<file path=ppt/comments/comment8.xml><?xml version="1.0" encoding="utf-8"?>
<p:cmLst xmlns:p="http://schemas.openxmlformats.org/presentationml/2006/main">
  <p:cm authorId="0" dt="2015-09-01T00:36:53.085000000" idx="8">
    <p:pos x="278" y="2247"/>
    <p:text>Export: excelWikit</p:text>
  </p:cm>
</p:cmLst>
</file>

<file path=ppt/comments/comment9.xml><?xml version="1.0" encoding="utf-8"?>
<p:cmLst xmlns:p="http://schemas.openxmlformats.org/presentationml/2006/main">
  <p:cm authorId="0" dt="2015-09-01T00:37:03.945000000" idx="9">
    <p:pos x="318" y="2227"/>
    <p:text>Export: excelHtml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1E13-04F3-4A6F-9FFD-67F97ED745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89C8-2D68-4393-9B7A-E06F477006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E432-7F54-49CF-89B3-E9DE576F29F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23D-65E3-4BC3-83C1-3778C5CB57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1CB5-341A-4289-90C8-33B5F8CF85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F0A8-1B58-48D0-84E1-F977EC891E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CB1A-C1D4-4A60-A454-FE148D2559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64880" y="81000"/>
            <a:ext cx="957564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2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8000"/>
            <a:ext cx="936000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WT – Overview of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179280" y="4319640"/>
            <a:ext cx="9360000" cy="718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Tw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cl Windows API 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179280" y="3600360"/>
            <a:ext cx="9360000" cy="719280"/>
          </a:xfrm>
          <a:prstGeom prst="rect">
            <a:avLst/>
          </a:prstGeom>
          <a:solidFill>
            <a:srgbClr val="d1d1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asic Auto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1"/>
          <p:cNvSpPr/>
          <p:nvPr/>
        </p:nvSpPr>
        <p:spPr>
          <a:xfrm>
            <a:off x="7380360" y="2160720"/>
            <a:ext cx="215892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Mat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athWorks Matl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2"/>
          <p:cNvSpPr/>
          <p:nvPr/>
        </p:nvSpPr>
        <p:spPr>
          <a:xfrm>
            <a:off x="4859280" y="2160720"/>
            <a:ext cx="215892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O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S Document 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3"/>
          <p:cNvSpPr/>
          <p:nvPr/>
        </p:nvSpPr>
        <p:spPr>
          <a:xfrm>
            <a:off x="7380360" y="2879640"/>
            <a:ext cx="21589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dobe Acrobat 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4859280" y="720720"/>
            <a:ext cx="21589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S Internet Explo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8"/>
          <p:cNvSpPr/>
          <p:nvPr/>
        </p:nvSpPr>
        <p:spPr>
          <a:xfrm>
            <a:off x="179280" y="1440000"/>
            <a:ext cx="216072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Exc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0"/>
          <p:cNvSpPr/>
          <p:nvPr/>
        </p:nvSpPr>
        <p:spPr>
          <a:xfrm>
            <a:off x="2340000" y="2160720"/>
            <a:ext cx="215892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8"/>
          <p:cNvSpPr/>
          <p:nvPr/>
        </p:nvSpPr>
        <p:spPr>
          <a:xfrm>
            <a:off x="179280" y="2160720"/>
            <a:ext cx="216072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0"/>
          <p:cNvSpPr/>
          <p:nvPr/>
        </p:nvSpPr>
        <p:spPr>
          <a:xfrm>
            <a:off x="2340000" y="1440000"/>
            <a:ext cx="215892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Outl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6"/>
          <p:cNvSpPr/>
          <p:nvPr/>
        </p:nvSpPr>
        <p:spPr>
          <a:xfrm>
            <a:off x="179280" y="2879640"/>
            <a:ext cx="432144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asic Office Auto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2"/>
          <p:cNvSpPr/>
          <p:nvPr/>
        </p:nvSpPr>
        <p:spPr>
          <a:xfrm>
            <a:off x="4859280" y="2879640"/>
            <a:ext cx="21589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S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Speech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1"/>
          <p:cNvSpPr/>
          <p:nvPr/>
        </p:nvSpPr>
        <p:spPr>
          <a:xfrm>
            <a:off x="7380360" y="1440000"/>
            <a:ext cx="215892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oogle Ea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4859280" y="1440000"/>
            <a:ext cx="215892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On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One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Grafik 1" descr=""/>
          <p:cNvPicPr/>
          <p:nvPr/>
        </p:nvPicPr>
        <p:blipFill>
          <a:blip r:embed="rId1"/>
          <a:stretch/>
        </p:blipFill>
        <p:spPr>
          <a:xfrm>
            <a:off x="0" y="0"/>
            <a:ext cx="63342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Grafik 1" descr=""/>
          <p:cNvPicPr/>
          <p:nvPr/>
        </p:nvPicPr>
        <p:blipFill>
          <a:blip r:embed="rId1"/>
          <a:stretch/>
        </p:blipFill>
        <p:spPr>
          <a:xfrm>
            <a:off x="57240" y="81000"/>
            <a:ext cx="861048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hteck 2"/>
          <p:cNvSpPr/>
          <p:nvPr/>
        </p:nvSpPr>
        <p:spPr>
          <a:xfrm>
            <a:off x="6191280" y="81000"/>
            <a:ext cx="2881440" cy="4068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ck 3"/>
          <p:cNvSpPr/>
          <p:nvPr/>
        </p:nvSpPr>
        <p:spPr>
          <a:xfrm>
            <a:off x="3311640" y="81000"/>
            <a:ext cx="2592360" cy="4068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"/>
              </a:rPr>
              <a:t>Tcl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ck 4"/>
          <p:cNvSpPr/>
          <p:nvPr/>
        </p:nvSpPr>
        <p:spPr>
          <a:xfrm>
            <a:off x="108000" y="81000"/>
            <a:ext cx="2879640" cy="4068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  <a:ea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lussdiagramm: Mehrere Dokumente 6"/>
          <p:cNvSpPr/>
          <p:nvPr/>
        </p:nvSpPr>
        <p:spPr>
          <a:xfrm>
            <a:off x="287280" y="2340000"/>
            <a:ext cx="2521080" cy="7207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WT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Tc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lussdiagramm: Dokument 21"/>
          <p:cNvSpPr/>
          <p:nvPr/>
        </p:nvSpPr>
        <p:spPr>
          <a:xfrm>
            <a:off x="287280" y="539640"/>
            <a:ext cx="2521080" cy="720720"/>
          </a:xfrm>
          <a:prstGeom prst="flowChartDocumen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erManual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awtManualTemplat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3451320" y="1305000"/>
            <a:ext cx="2340000" cy="71892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. UserManual Do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genCawtDoc.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ussdiagramm: Dokument 23"/>
          <p:cNvSpPr/>
          <p:nvPr/>
        </p:nvSpPr>
        <p:spPr>
          <a:xfrm>
            <a:off x="6408720" y="907920"/>
            <a:ext cx="2519280" cy="720720"/>
          </a:xfrm>
          <a:prstGeom prst="flowChartDocumen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awtManual-VERSION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ussdiagramm: Dokument 24"/>
          <p:cNvSpPr/>
          <p:nvPr/>
        </p:nvSpPr>
        <p:spPr>
          <a:xfrm>
            <a:off x="6408720" y="1881360"/>
            <a:ext cx="2519280" cy="718920"/>
          </a:xfrm>
          <a:prstGeom prst="flowChartDocument">
            <a:avLst/>
          </a:prstGeom>
          <a:solidFill>
            <a:srgbClr val="f97c5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awtManual-VERSION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lussdiagramm: Dokument 31"/>
          <p:cNvSpPr/>
          <p:nvPr/>
        </p:nvSpPr>
        <p:spPr>
          <a:xfrm>
            <a:off x="287280" y="1440000"/>
            <a:ext cx="2521080" cy="720720"/>
          </a:xfrm>
          <a:prstGeom prst="flowChartDocumen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erManual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awtFigures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lussdiagramm: Mehrere Dokumente 15"/>
          <p:cNvSpPr/>
          <p:nvPr/>
        </p:nvSpPr>
        <p:spPr>
          <a:xfrm>
            <a:off x="272880" y="3240000"/>
            <a:ext cx="2521080" cy="719280"/>
          </a:xfrm>
          <a:prstGeom prst="flowChartMultidocument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WT 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M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3440160" y="2276640"/>
            <a:ext cx="2340000" cy="1728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VERSION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DATE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YEAR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FIGURE Figure-0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TABLE Excel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%TABLE TestPrograms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Gewinkelte Verbindung 10"/>
          <p:cNvCxnSpPr>
            <a:stCxn id="245" idx="3"/>
            <a:endCxn id="241" idx="1"/>
          </p:cNvCxnSpPr>
          <p:nvPr/>
        </p:nvCxnSpPr>
        <p:spPr>
          <a:xfrm flipV="1">
            <a:off x="2793960" y="1664640"/>
            <a:ext cx="658080" cy="193572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Gewinkelte Verbindung 17"/>
          <p:cNvCxnSpPr>
            <a:stCxn id="240" idx="3"/>
            <a:endCxn id="241" idx="1"/>
          </p:cNvCxnSpPr>
          <p:nvPr/>
        </p:nvCxnSpPr>
        <p:spPr>
          <a:xfrm>
            <a:off x="2808360" y="900000"/>
            <a:ext cx="643320" cy="766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Gewinkelte Verbindung 22"/>
          <p:cNvCxnSpPr>
            <a:stCxn id="244" idx="3"/>
            <a:endCxn id="241" idx="1"/>
          </p:cNvCxnSpPr>
          <p:nvPr/>
        </p:nvCxnSpPr>
        <p:spPr>
          <a:xfrm flipV="1">
            <a:off x="2808360" y="1664640"/>
            <a:ext cx="643320" cy="135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Gewinkelte Verbindung 33"/>
          <p:cNvCxnSpPr>
            <a:stCxn id="239" idx="3"/>
            <a:endCxn id="241" idx="1"/>
          </p:cNvCxnSpPr>
          <p:nvPr/>
        </p:nvCxnSpPr>
        <p:spPr>
          <a:xfrm flipV="1">
            <a:off x="2808360" y="1664640"/>
            <a:ext cx="643320" cy="1035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Gewinkelte Verbindung 35"/>
          <p:cNvCxnSpPr>
            <a:endCxn id="242" idx="1"/>
          </p:cNvCxnSpPr>
          <p:nvPr/>
        </p:nvCxnSpPr>
        <p:spPr>
          <a:xfrm flipV="1">
            <a:off x="5790960" y="1267560"/>
            <a:ext cx="618120" cy="397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Gewinkelte Verbindung 37"/>
          <p:cNvCxnSpPr>
            <a:stCxn id="241" idx="3"/>
            <a:endCxn id="243" idx="1"/>
          </p:cNvCxnSpPr>
          <p:nvPr/>
        </p:nvCxnSpPr>
        <p:spPr>
          <a:xfrm>
            <a:off x="5790960" y="1665000"/>
            <a:ext cx="618120" cy="57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365200" y="131760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vStringTo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365200" y="167796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rixToCsv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5240160" y="800280"/>
            <a:ext cx="129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2360520" y="159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360520" y="19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5240160" y="1035000"/>
            <a:ext cx="13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22828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5232240" y="1484280"/>
            <a:ext cx="134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800520" y="620640"/>
            <a:ext cx="143964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5"/>
          <p:cNvSpPr/>
          <p:nvPr/>
        </p:nvSpPr>
        <p:spPr>
          <a:xfrm>
            <a:off x="6573960" y="620640"/>
            <a:ext cx="1258920" cy="237672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1389240" y="1317600"/>
            <a:ext cx="971280" cy="1355760"/>
          </a:xfrm>
          <a:prstGeom prst="flowChartPredefined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S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198360" y="620640"/>
            <a:ext cx="71928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917640" y="800280"/>
            <a:ext cx="288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2396520" y="5475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Csv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H="1">
            <a:off x="917640" y="1089000"/>
            <a:ext cx="288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398680" y="83664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Csv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7761240" y="119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781524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4"/>
          <p:cNvSpPr/>
          <p:nvPr/>
        </p:nvSpPr>
        <p:spPr>
          <a:xfrm>
            <a:off x="9021600" y="585720"/>
            <a:ext cx="71928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 flipH="1">
            <a:off x="7832880" y="1015920"/>
            <a:ext cx="11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 flipH="1">
            <a:off x="7832880" y="1447920"/>
            <a:ext cx="118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 flipH="1">
            <a:off x="917640" y="2816280"/>
            <a:ext cx="565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3446640" y="256536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Csv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921920" y="7858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1965240" y="10382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963080" y="78588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Tablelist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965240" y="14698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960920" y="121752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Tablelist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1965240" y="22622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729320" y="198756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ablelist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729320" y="237024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Tabl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4844880" y="102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917240" y="12175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4836960" y="1469880"/>
            <a:ext cx="216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1964880" y="26226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3405240" y="785880"/>
            <a:ext cx="1439640" cy="89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7007400" y="606600"/>
            <a:ext cx="1258560" cy="220968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706320" y="606600"/>
            <a:ext cx="1258920" cy="220968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Tabl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Tablelist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256760" y="80028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265400" y="123192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935160" y="18572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lab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935160" y="238428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978000" y="278136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lab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3978000" y="311796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celFileTo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MatlabFile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2203560" y="1217520"/>
            <a:ext cx="17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d::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186640" y="78588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d::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32840" y="7858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2179800" y="1038240"/>
            <a:ext cx="18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2179800" y="1469880"/>
            <a:ext cx="18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2179800" y="2262240"/>
            <a:ext cx="54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340240" y="198756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Tab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340240" y="237024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Word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456160" y="102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528520" y="12175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5448240" y="1469880"/>
            <a:ext cx="216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2179440" y="2622600"/>
            <a:ext cx="54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4016520" y="785880"/>
            <a:ext cx="1439640" cy="89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7618320" y="606600"/>
            <a:ext cx="1258920" cy="220968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920880" y="606600"/>
            <a:ext cx="1258920" cy="220968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d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Word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297320" y="800280"/>
            <a:ext cx="13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134000" y="80028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135800" y="12319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834360" y="18572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wImage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834360" y="23842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977280" y="2781360"/>
            <a:ext cx="19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wImage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29192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Raw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3977280" y="3117960"/>
            <a:ext cx="19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celFileTo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ImgRaw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134720" y="80028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136520" y="1231920"/>
            <a:ext cx="148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935520" y="1857240"/>
            <a:ext cx="20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diaWiki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935520" y="2384280"/>
            <a:ext cx="20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3978360" y="27813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diaWiki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edia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3978360" y="3117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celFileTo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MediaWiki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311120" y="80028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352880" y="1231920"/>
            <a:ext cx="11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936960" y="18572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kit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3936960" y="238428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979800" y="27813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kit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i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3979800" y="31179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celFileTo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 excelWikit – Procedur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355760" y="123192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Htm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934440" y="238428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Htm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978360" y="311796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celFileToHtm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 excelHtml – Procedur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22:17:48Z</dcterms:created>
  <dc:creator>Paul Obermeier</dc:creator>
  <dc:description/>
  <dc:language>en-US</dc:language>
  <cp:lastModifiedBy>Paul Obermeier</cp:lastModifiedBy>
  <dcterms:modified xsi:type="dcterms:W3CDTF">2021-01-05T20:18:13Z</dcterms:modified>
  <cp:revision>74</cp:revision>
  <dc:subject>Figures for Cawt User Manual</dc:subject>
  <dc:title>CawtFigures</dc:title>
</cp:coreProperties>
</file>